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E9C3-9012-4628-9A1F-40AB6769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4024-660B-420A-A958-A6D81AB8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42A1-5085-4BCE-87B1-FE86B517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F339-2936-411B-BE9F-4C6C9798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B62E-78EE-4EA7-9011-B4F590A2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EF7E-5E87-4F00-91F3-8446CA4D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2CBF-3B6F-426E-A97C-CB36F200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397D-ED3A-4B92-A803-FCAA173A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1533-CABE-49E1-BC12-A38B7D85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BA4B-244A-4BDA-970B-3D927C6E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A7BC-6515-4A72-A97C-D615327D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3073-B1E8-4211-BF34-39313FA4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4D85-75FC-4736-B744-409A543D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8B67-8DAF-48BA-A1BF-DA96829B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331E-C6C9-4993-B255-55BB9EDB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09CB-CF72-460B-8F5B-02102E0B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0569-6234-43B5-BBD5-C22E18D9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26A6-0E02-428B-A686-6CA1C405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49064-E612-4E4D-86DE-3B9A4742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5454-0756-44AA-B95C-F74E8087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DA3E-CD59-4080-ABC2-74BD8AFC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A7A3-D03F-44D1-A1F0-6C734E7E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067E-A5AB-4565-AD46-A689EAB7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B6CC-F15F-4DE3-858F-69F843AD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066D-993F-408E-84D7-297F382C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3B59-2E58-4FF4-B253-A44925B0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209A-1BF1-43A9-AD82-02A1017C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C6EB7-3779-4EBF-9B20-4BAE0F22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6781A-8CA7-40D5-9406-2FB4B4B3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59D5-7DEE-49D0-8617-5571CC5C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9B07-9830-4D87-892E-4703CB83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601E-BE01-4108-998B-917210A5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C01C-1D53-498F-8E83-8D75E805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5785-EF87-48EE-B1AA-FCF66DA1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AEC1-0D36-4794-BA1E-FCFF766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A415-1C27-4813-88EB-DB3776E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57FB-5102-4ED9-A683-B07F84142A08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9876-34E8-4026-81EA-E18204030A9D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324480" y="228600"/>
            <a:ext cx="255276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Ministère des Affaires étrangères - DSI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_Hornet_bitmap_500x348x128c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72840" cy="468360"/>
          </a:xfrm>
          <a:prstGeom prst="rect">
            <a:avLst/>
          </a:prstGeom>
          <a:ln w="0">
            <a:noFill/>
          </a:ln>
        </p:spPr>
      </p:pic>
      <p:sp>
        <p:nvSpPr>
          <p:cNvPr id="1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DBF-9C5F-48BC-9215-9BA9DD46F4A0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08640"/>
            <a:ext cx="896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66699"/>
                </a:solidFill>
                <a:latin typeface="Tahoma"/>
                <a:ea typeface="Times New Roman"/>
              </a:rPr>
              <a:t>Ce document est la propriété du Ministère des Affaires étrangères et ne peut être ni divulgué ni copié sans son autorisation. Les citations doivent mentionner la source.</a:t>
            </a:r>
            <a:r>
              <a:rPr b="0" lang="en-US" sz="1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60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Logo_Hornet_bitmap_500x348x128c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7036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logo_MAE-BD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173808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3FF3-396B-4D97-ACEC-1FBF985DD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cp:keywords>Hornet Modele de présentation</cp:keywords>
  <dc:language>en-US</dc:language>
  <cp:lastModifiedBy>Sébastien PERCIER</cp:lastModifiedBy>
  <dcterms:modified xsi:type="dcterms:W3CDTF">2012-09-28T13:52:37Z</dcterms:modified>
  <cp:revision>27</cp:revision>
  <dc:subject/>
  <dc:title>Modèle de présentation PowerPoint</dc:title>
</cp:coreProperties>
</file>